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923-2B6A-4310-8A7B-124FA8FD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A7F-1952-4C82-B8D2-87F28FE8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E8F-B9F0-446C-9C5F-7343577D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D6A-D7DA-4952-A655-A741EEC1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788-F28C-4DC9-B7F9-45A84BAC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6CC-12BC-4A21-9EA9-75C13292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2EC-9F68-470F-814C-EEE60700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06F-3148-4247-B187-3E930E8B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2B4-DBD2-4D68-BE1F-513C81E6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E7E-E08A-4C3D-99DB-4B92F469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040-5279-4F00-AB5A-79EEC973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B39-0E3E-431F-A83D-740F6FC0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3B2A-5E8D-4F2E-89E9-B402C7778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orldatlas.com/webimage/countrys/namerica/usstates/fl.htm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theus50.com/florida/flag.php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jewelrymall.com/cgibin/xlinker.cgi?loc=123&amp;lf=123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jewelrymall.com/stones/moonstone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248520" y="51055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86600" y="5181480"/>
            <a:ext cx="2057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att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19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19320" y="762120"/>
            <a:ext cx="640080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loRida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apital: Tallaha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Population: 15,982,3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Entered the union: March 3,18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otto: In god we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Nick name: Sun shin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Flower: Orange blos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ird: Mocking 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aning behind name: Named on Easter by Ponce de Leon meaning “flowery Eas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nt Augustine is the oldest European settlement in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lando attracts more visitors than any other amusement park destination in 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ami beach pharmacist Ben Green made the first sun tan screen in 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ami installed first ATM, especially for roller bl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Florida map"/>
          <p:cNvPicPr/>
          <p:nvPr/>
        </p:nvPicPr>
        <p:blipFill>
          <a:blip r:embed="rId1"/>
          <a:stretch/>
        </p:blipFill>
        <p:spPr>
          <a:xfrm>
            <a:off x="0" y="0"/>
            <a:ext cx="3962520" cy="3179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86200" y="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Atlas, map of Florida, March 2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orldatlas.com/webimage/countrys/namerica/usstates/f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00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p of Florida shows its capitol, Tallahassee, and many other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Official Florida state flag."/>
          <p:cNvPicPr/>
          <p:nvPr/>
        </p:nvPicPr>
        <p:blipFill>
          <a:blip r:embed="rId3"/>
          <a:stretch/>
        </p:blipFill>
        <p:spPr>
          <a:xfrm>
            <a:off x="5105520" y="4187880"/>
            <a:ext cx="4038480" cy="2670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4952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lag of Florida is a symbol of it’s authority and sovereig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97960" y="3276720"/>
            <a:ext cx="40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50,state of Florida flag, March 2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9360" y="373392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theus50.com/florida/flag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58128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3733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welry Mall, Moon stone jewelry, March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962520"/>
            <a:ext cx="420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jewelrymall.com/stones/moonston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808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one example of one of Florida’s state gems. This gem is a moon 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7Z</dcterms:created>
  <dc:creator>install</dc:creator>
  <dc:description/>
  <dc:language>en-US</dc:language>
  <cp:lastModifiedBy>install</cp:lastModifiedBy>
  <dcterms:modified xsi:type="dcterms:W3CDTF">2012-04-16T13:05:49Z</dcterms:modified>
  <cp:revision>10</cp:revision>
  <dc:subject/>
  <dc:title>Slide 1</dc:title>
</cp:coreProperties>
</file>